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085-F728-4496-AE52-2A62BB21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82B-D73F-4405-B12E-1BAE3BC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E7D-F559-4804-BB08-1F8A03BB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885-E085-41EA-95A7-093ED4FB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1EB-A3CD-4CB2-939F-DBE7A22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A97-2604-4BEE-9D2A-C3B98123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EA6-4F55-4E71-8A08-08F3046D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FF1-2A3E-4AE2-81E1-981E5AC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2C2-C7E3-4E8B-A5F5-2F89B05F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7D4-B311-49D0-8C20-26436B5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9C3-58CB-4FBA-AC32-D874D11F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E3B-0710-46BC-A1EA-DE30F7D2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4D46-A4BB-4BBE-B4A6-F748B9AA640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9 Šťastný je dom, kde vítajú ťa ra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v tvojej bázni rastú neustá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šetkom chcú si z t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klad br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piesňami ťa radi oslavu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obia tvojmu men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ck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ú zvesť o spáse oznamu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nažia sa aj iných k tebe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kde radosť pripravuje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šetkým pokoj do sŕdc zasieva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kde bolesť odstraňuj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oroby liečiš, smútok zaháň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raz sa skončia bôle, strasti, bo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š verným z lásky domov jedi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vezmeš k sebe všetky deti s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lávnej, krásnej, večnej otčiny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kde vítajú ťa rad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ateľu vzácny, Pane Ježiš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s tebou chcú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o všetkom vždy rad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vajú úctu tebe najvyšši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sú ti všetky srdcia odovzdané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dôverou k tebe hľadi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rad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voju vôľu pýtajú sa,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slušne ju plni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kde spolu muž i že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rovnakom duchu teba vzýv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odlitbách vrúcnych den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olená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tvojich rúk vždy všetk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klad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obaja sa pevne držia t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radosti v blahu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žiali, starosti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utujú svorne za tebou do n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u úzkou cestou z t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už aj deti mal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ia sa, Pane teba pozná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55:02Z</dcterms:modified>
  <cp:revision>70</cp:revision>
  <dc:subject/>
  <dc:title>Je veľký náš Pán, on slávy je Kráľ Nech do všetkých strán  spev vrúcnych znie chvál.</dc:title>
</cp:coreProperties>
</file>